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F7B8-DAF4-43D3-A9AB-A0468548C6D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C4B-57A8-4FF1-99D3-27A0C771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F2C-912D-4BD9-B0DB-868C270F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F4D-372A-4FAB-8E1C-5241CD3B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261-BB9B-4A24-8132-425833C0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4D0B-3238-4FAD-A3B3-ACF5CFFE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F511-05FD-4BB0-A12B-656C8994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7E38-651E-461C-8AF2-AF92291B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91EB-917F-4B87-AFC3-F1D90E58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5C09-63B6-49A9-BCBF-C0C34B96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0D3E-FAD3-4169-B972-F186432B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5424-3540-40C1-8B05-CF0E691A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16A-956B-4C5E-BDE7-2A9C4164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FEA6-2D51-4D6F-BB81-5E4C5238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6A71-BA61-4CA3-8C56-AA7B5C96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F274-E035-4163-AF55-D8BD88DD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B885-F92A-40D5-BD8A-5FD45D5D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484F-10AD-4A6E-A8E4-A0B28F26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C7A-5B23-4583-8AE8-08C2143B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A1B-DC28-401D-9009-870E3DA8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775-73FB-4B06-80E2-E8525497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9E1-E96F-410A-B891-13EAA5D3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F46-7AD4-4BAA-AB90-8824109A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67E-F7E8-46AA-8E32-DB3B1DEF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B24-7124-474A-9F3B-4F13831E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83F2-257C-4E99-B59C-486901F781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09B4-FB73-4614-B493-44ADA684C8F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Pablo, Duy and Ta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6436-EB5F-400B-AFE5-BC5F05944235}" type="datetime">
              <a:rPr b="0" lang="en-US" sz="2800" spc="-1" strike="noStrike">
                <a:solidFill>
                  <a:srgbClr val="006666"/>
                </a:solidFill>
                <a:latin typeface="Arial"/>
              </a:rPr>
              <a:t>07/29/26</a:t>
            </a:fld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net 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PA (Advanced Research Project Agenc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undation of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PA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(Transmission Control Protoco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Int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rn u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rn 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E-COMME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 Impa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71640" y="3716280"/>
            <a:ext cx="65419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 YOU FOR LISTENING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.=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51600" y="0"/>
            <a:ext cx="2913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0:15:27Z</dcterms:created>
  <dc:creator>Microsoft</dc:creator>
  <dc:description/>
  <dc:language>en-US</dc:language>
  <cp:lastModifiedBy>Test User</cp:lastModifiedBy>
  <dcterms:modified xsi:type="dcterms:W3CDTF">2010-05-11T00:09:58Z</dcterms:modified>
  <cp:revision>16</cp:revision>
  <dc:subject/>
  <dc:title>Internet</dc:title>
</cp:coreProperties>
</file>